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</p:sldMasterIdLst>
  <p:notesMasterIdLst>
    <p:notesMasterId r:id="rId51"/>
  </p:notesMasterIdLst>
  <p:sldIdLst>
    <p:sldId id="256" r:id="rId52"/>
    <p:sldId id="257" r:id="rId53"/>
    <p:sldId id="258" r:id="rId54"/>
    <p:sldId id="259" r:id="rId55"/>
    <p:sldId id="260" r:id="rId56"/>
    <p:sldId id="261" r:id="rId57"/>
  </p:sldIdLst>
  <p:sldSz cx="7621588" cy="45751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notesMaster" Target="notesMasters/notesMaster1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4" name="Rectangle à coins arrondi 819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5" name="Zone de texte 8193"/>
          <p:cNvSpPr/>
          <p:nvPr/>
        </p:nvSpPr>
        <p:spPr>
          <a:xfrm>
            <a:off x="0" y="0"/>
            <a:ext cx="3962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dt" idx="112"/>
          </p:nvPr>
        </p:nvSpPr>
        <p:spPr>
          <a:xfrm>
            <a:off x="5180040" y="-360"/>
            <a:ext cx="3960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15/07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 type="sldImg"/>
          </p:nvPr>
        </p:nvSpPr>
        <p:spPr>
          <a:xfrm>
            <a:off x="2644920" y="856800"/>
            <a:ext cx="3852720" cy="2313000"/>
          </a:xfrm>
          <a:prstGeom prst="rect">
            <a:avLst/>
          </a:prstGeom>
          <a:noFill/>
          <a:ln cap="sq"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 type="body"/>
          </p:nvPr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Zone de texte 8197"/>
          <p:cNvSpPr/>
          <p:nvPr/>
        </p:nvSpPr>
        <p:spPr>
          <a:xfrm>
            <a:off x="0" y="6513480"/>
            <a:ext cx="3962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 type="sldNum" idx="113"/>
          </p:nvPr>
        </p:nvSpPr>
        <p:spPr>
          <a:xfrm>
            <a:off x="5180040" y="6513120"/>
            <a:ext cx="3960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FCF2234D-F09D-4F86-9DDA-80B64C90C019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Espace réservé de la date 1"/>
          <p:cNvSpPr/>
          <p:nvPr/>
        </p:nvSpPr>
        <p:spPr>
          <a:xfrm>
            <a:off x="5180040" y="0"/>
            <a:ext cx="3960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15/07/19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3" name="Espace réservé du numéro de diapositive 2"/>
          <p:cNvSpPr/>
          <p:nvPr/>
        </p:nvSpPr>
        <p:spPr>
          <a:xfrm>
            <a:off x="5180040" y="6513480"/>
            <a:ext cx="3960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C1104A26-27C2-44C8-91AD-E7578F6197F9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2643120" y="857160"/>
            <a:ext cx="3857760" cy="23148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3300120"/>
            <a:ext cx="731520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fr-FR" sz="18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57327-4983-412D-9A43-5A8862BA6F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40499-421C-465D-A70A-F9AF662F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A12768-4838-49AE-91D3-38B295DD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1CE81D-EFBD-47BD-930D-54C80A14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52B02A-B00F-4C98-9952-7B8D5A1B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CA9363-E5AD-4B6B-B644-03509162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BCD473-05AA-4945-97E6-47A1C544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5EED64-0F4E-48A9-A210-11B9C972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36AA80-453B-4182-9309-D06942E9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84F740-C41F-4B3B-9FD0-BC221664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ADD8D5-0F51-40E7-AADE-2D1621CC73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C8996B-10BF-4879-B18C-5615242539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BCDA2-A12C-47FC-9778-2BD9269C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8EEAE4-789B-4241-8707-9A228D7F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2F7BF7-A6B4-45AE-91B8-E6F0DDDA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602D3E-FD1C-4AC3-8790-279173D9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9121D6-3330-4FB0-8748-F6231818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C47978-9CA8-4800-B46C-371637DE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E2B481-5997-4D9B-AFDE-C68DB462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86D7E7-1751-4857-AC98-743C7CCE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946D3F-D2E4-48D9-AED0-48C2B739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83B4DE-00C4-4CE8-808A-FADB6D09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82FF37-2A0A-40BE-9044-B6CF18EC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1BD60-0489-4726-B677-5904BDD298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B810A8-810C-4CA1-AD2C-BA7A84A93D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D23CD-ED59-461F-A98D-B8A73620ED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E8B1E-15FE-4489-8E51-28C0E285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28963-ECE5-4F8B-A1BF-3CE83FDE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24E37-38DD-4F1C-A454-0FAF4777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762AC-1468-47E6-8A0A-29C19080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43DE8-9D62-4A43-B7EC-AACACE3A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1FD65-B0C0-450F-B6BD-5B2A051E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10265-F9A5-4864-B077-31CFFD6E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A814E-8FE7-4400-9D8D-B941A3CF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83119-21A6-424C-8052-A684597BDD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1B78D-CD7D-4EE9-A05E-739FA324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54286-0E6E-46EB-9213-17F4E0CF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6C0F5-9DC0-40F5-AF2E-173F8EB85E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F46C19-366A-487D-A98A-3102E66E83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FF74E3-BFA0-4564-90A9-12995081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7E7DFA-DA1C-4165-B804-604CAEFD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643146-E99E-404C-AE3B-76EC06E4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1D60E4-72B5-4DD2-8650-347885DF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EBAD24-625B-434B-83CA-2C7320D1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1DD53F-835F-4C7B-AD7F-534B004D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E70D7-2169-44B1-A572-17C8DE8A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476FB8-F22B-4FB9-A925-2C4E0F7C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7E8230-8665-4DEA-8E0C-A7CF65FE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1A7135-EE01-47DE-BF32-903F8CC7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B864F4-C675-4141-AC63-879AF6B4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B5A55E-1097-4D76-9C93-C9B76B981D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B6CDC-F01F-4F25-8457-9BD0139A3B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F5E26-58E1-4B1D-9F63-BFC59871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6D7DA6-24AC-4DB8-BCFB-AC3507B9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78676-8855-4635-84F8-8020061F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3B914-5C97-4A28-9589-3DBFEB15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7135F-B578-4C87-A1D6-2E71F700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28E67E-53C4-48D9-A8F0-D3843922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B7CC5-213B-4404-9CE1-12B235DB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9F3A3-60AA-4213-8656-FDC49ADE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A3B44B-A5C3-433F-9429-5887C4ED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CB0D0-B340-4B90-90BF-383EDDED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791C14-052D-4E70-AA91-B19EFCF7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CF732-E6BF-47EA-8BE4-70017E331C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4CE7A-72E6-47B2-829B-24B07454E7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DE1C2-E40D-49F4-B0D5-103DE3A3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E3882-120F-4BA7-B48D-EA48B15B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E1C42-E04E-47A4-801F-530E1416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6FA5F-1819-4896-81F3-2471FE45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DB777-04DF-47B1-9BBB-B52E3A1F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23FC4-FD29-4C69-96A7-DE7BA61D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B0077-A029-4BF9-B204-D63FDEC8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0058D-6D1E-4F4A-8201-168CE9C1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5129D-B746-49D8-A92A-DFF09761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A84DF-EA35-452E-8512-3DEF0734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05422-7C5C-4078-A1DE-B97EF64C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FE88D-19CF-48FE-8B17-E1C1A961B2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8EDF35-20E7-41CA-8AF8-10CD95B8D6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95CCB-187F-4219-91FA-61A65DA5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218449-2B76-45F6-9F12-298779EF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C96E48-DBBF-4AFB-B775-DEBD02F9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320207-F67E-4A30-8EE5-7866A29E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C1B6B6-71A7-4852-BB44-614BA24F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96AA42-4ADB-4E5B-9729-120EF454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7DA1C6-B4C4-498D-A320-014F189E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6DBA79-C6B5-4DC9-8CF4-7297652B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7BD00E-E8E7-4418-8A1C-453DF4F9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1115DE-025B-45F5-A1FA-6C543AE9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B07EBA-A97E-4C73-8248-AC1A4E46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B54B8-ED6F-49AE-AC92-65729CBD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73A2EC-8862-4BBC-9FAA-D90169564B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6A6C4-486B-4EC4-B0A7-F5FAEEE63E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4AF9D0-F5C8-4C40-938E-345257BF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99E74-F79C-4D43-BEF4-6E82294E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4D95D-4E4A-4E15-9D6A-7BE81041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0C45D-36C0-4DB9-B9E5-9090328C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765EA-BCD4-4A40-97F8-2BEC629E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491455-84A8-4267-B9F5-7A58A29A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156CD-0EAD-49DC-8885-345466BA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6B931-D109-4765-B31A-A697E8E8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F8DE3-C1FD-43D8-AA7F-435496DD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44EAD2-62D3-4BE4-B00A-925EC4EE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A2280-81B5-4B0E-87BB-5BCAAD90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A54E7-809E-41BE-9023-AD0E3C013D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619B8-D3F3-40DD-AE06-E7D1638D20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BDC91-38D4-4162-BD28-6A5D79CA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FCC2F-F72D-41EA-81B7-3031595C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B82DA-1D26-4AE6-A7F3-DEA72D65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BD5F1-32AA-4611-8BFA-9EAF1F9D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D7122-882E-4170-AF64-A36C4563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647DD-08FB-4C29-84B2-5D4CC949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A9D40-2279-4AAB-8521-6C7A7A43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B8DD0-38E5-4C93-88DE-194080EB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0BA95-5A25-404B-A0E8-82D086C3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6EBDC-A742-455B-B291-D5A9B298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C7779-D9C6-48C1-AA55-19CDF3B5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36C96-7E08-4F32-B99A-D141E2FF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DB350-FDFE-43AC-9665-032DE28401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F0A542-0D52-4DB8-9101-2033D1ED29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838620-95FC-4BC9-A6FA-E6B23E1D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EE33D1-16EC-4430-BF41-522454CE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E698E7-62B6-4854-8565-94292A6D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1C97A4-58B5-4A86-A7F5-C726E3C5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6D3B5-BFF3-499F-9D1B-5EDF2052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974AB5-ABC9-4D29-8C83-9C72CD84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4655D5-6DDF-4CF6-B699-935EEC2C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D1C1AB-45D6-4997-9C42-B2C717C5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61508A-08BC-4D07-9E66-CB3DE455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C5C5F5-6FED-4E23-9BF4-71A25FE5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4A530E-8C38-46DA-82C2-5B11E544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925BC0-2DF8-4713-9A63-AD0B1168B8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320C120-6355-47AC-ADCA-41E042623E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A9816A9-445E-4DA9-977F-84ED2333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03C6963-AF0E-47D4-ADB3-32DA9717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C02E3-10CA-4DAA-B83B-9BB7FCEE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F32C96-4BD1-43C8-A873-03D929D8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A0AF4D-EB98-4876-9A9A-9DCBE7FA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9FC3004-F024-41C2-A672-6CEFCB00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A50B1C-AF43-43A6-93E2-6C5B1137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C08C71-D868-4527-953C-F4C49F1D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E32CC7A-4330-47AE-A761-6766F855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15DD2F-C1D9-4245-ADD2-81121FEE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85A5D9-9CF3-4869-ACA9-2357DA45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19BBF9E-3E5D-4AA6-9AE0-E2C78C2875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0635D-C177-4B78-AAF3-77047EB647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D1B06-C58F-447A-8E4B-A9861E3A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A8F011-513F-456C-AF38-269F3043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3FA51-1832-4E94-9BFE-093EFC5A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CE9D5-A6E9-4928-87CA-C08C8211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27EFD-D03C-41A5-9B4B-65ECE84C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976BD-FF9E-44B7-AD2B-0522C2FE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E2ABD-E020-4574-90B0-87FE1D77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60F0BC-1979-4A1B-B4AE-18B25C9B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FF886F-5D44-4803-BCEA-0B6F25A0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5051B3-42C7-445F-A7EA-2B42F0E5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BF905-C980-4FB6-9588-9BB6D359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F501C-291C-49A2-B29B-52B56AE1E2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BB1835-2F41-4FC5-98A0-DAA2361206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5948D3-35A9-462C-BCA1-18C4FB5BDA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5B3586-0E58-4BCE-8B2F-1DC7FF0D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F13BED-CFE6-4454-BEB6-66683DED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E3F2FC-42EF-4764-B83F-A3BE2801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2DD6F5-BE5D-413F-9F29-4DD7A170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E0EF6C-9CDC-4C17-A30E-7F00CC37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05732F3-B9E6-48A4-83BB-B65F5A27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10F795-6FBE-4248-B635-A0AD5E86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EDAE42-2A1C-4B9F-BDA0-B648E1C3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CE4A-C3E8-4C38-A2FB-22D3C67E4D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BE8061-2983-4702-BE71-E9831E4E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C27648-6BE5-43EE-9067-191F4457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EEF7F6-45CB-43D7-BB6A-B8C4FF0BFC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379381C-2343-4E9D-AE74-565CA47255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E6B114-4A5B-4811-9ABF-29BEB59D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79C7B7C-5EE8-4D0D-B513-863F93D1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56D158-1167-443D-BD90-1A85C893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CB7CCCB-1ACE-4698-8729-CC2B2317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DD9C793-431C-4C61-9103-436F9164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63C4A5C-E448-4FA7-AF2A-6094AE78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86DE-A8F6-41A7-847D-F7EFDD4E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FC96A0F-E560-4DDD-8EDC-4A6B61C5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4645BD-A88A-42A8-88F8-63F181FB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EAD8E8-E4E3-44D7-A69E-ECBD395D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943781-A861-4781-891E-266EAAAD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1D0EE67-C024-4952-80E4-595B452F6D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761637-109F-4B34-95E0-22859F2A63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B40039-457B-4B86-B227-ADF5ACE0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CD1900-9B5B-4597-9787-12E4278B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B1FAEC-6B3A-4891-BA68-9725D140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A83D7C-6E09-4876-9911-E477ADCA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C9EC-D281-491F-BDE1-8D863F3E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34F73A-E0F5-4C03-860F-66F77BF2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A4CFED-D73A-43B5-B27E-F9CC760B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3E1C20-8167-4FF7-A163-EA2B0D4D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52DC08-99D5-4BD7-867C-7D6763A8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AE4502-67C5-4182-8972-854170D2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128599-C625-4F07-BE82-31AD6809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58160A-89FA-4BF2-9012-A61A446E9D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70E38E-811B-4EE1-BF9F-7C8F68E31B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B0E24AA-9351-42AF-804E-597DCB09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2F1616E-2C6B-40D6-84CE-B9F0D90A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FF64-13E6-4FD1-99FC-3E941657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163C668-EE89-4E28-BB2A-15F787B7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F04C160-402F-4979-B83A-288403CA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F26A7B5-6A6C-493E-A26C-04C77EAF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689A05-13EC-4C90-A2C9-7EC65A2F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78F9BF-337E-450F-BD91-7D9C5705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A0A093-1F4E-47F4-9EFB-881661AC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1C20731-EA90-4602-A5D8-2D7A8531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773074D-8BB1-4642-9F46-B1E9C28E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3585A9-02DB-4DE8-AD31-8C962D931D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07CA0D3-A31C-4292-9680-55C3C43F03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0958-5CA0-43D7-9AF7-BE13AD60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AB77BFE-E248-4D8D-A333-A5F3C137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54799E1-F7F5-48C5-B85E-286ADAA5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617E147-4F5A-4536-85EB-1CB002D5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9AFE962-4D89-427A-8094-F6B84AAC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854C9A6-3B17-492E-ADA7-648AACBE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30C7E3B-45C5-4526-8A0C-F60E89C5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D259D58-565D-4E8E-BF75-45F45FB4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86E1A15-122F-4A6A-9E35-134B119E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A301A28-BEB9-48D9-A995-BD142ABB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C2FC29C-833F-435C-B5C3-8AD18E8C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7B799-54E5-4568-9543-6041BE2B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B7C8-7641-4480-BECF-AAE798C0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2B6EB8B-58B1-4EF3-AFE2-A776A1F555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EDE62C-2181-4729-B985-11A096B2B2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05418D-A9F9-48B2-9E39-B373AE42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8ABF07-AFE1-472F-8316-02ABE7DA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FEE5D4-4583-4087-935A-B86A25CD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2E93DD-5125-4C28-ADF0-46B6EA3E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011F80-8F10-4996-AF3A-43DAC31E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53A4B9-1C04-4034-938E-D1158CA0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EE0D61-52B6-43D4-B3CD-31BA4A13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B94637-D7EB-4D12-8941-F126234C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7F4C-12EC-4CE7-AA35-B39C4D3D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A72208-ACF3-4087-86CE-AE0E6C90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B87404-18B1-44DE-B778-3C01AE78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8AE39E-D4BF-46E3-801E-4DF164C9E3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932800B-4D7B-4DA3-A76F-8571FB07CF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3AEC55-403C-4259-A0C7-C542FEBC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71E953B-1F3E-4167-ACFD-830929F7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AB0AA39-13A2-427F-AD95-51E38F20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CAD6CE-CC6C-44E2-B1AF-4CBEC887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CA96B25-AB9A-45E0-B95E-6712F0EC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6574894-B272-43E6-8AC9-D5B79703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429C-8F31-4C02-A181-47C12C3B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CD41D06-2DD0-402D-B670-17C11B69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D952A48-91B9-4A97-9587-D19E6849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9BF4CA8-960D-4A73-ACCE-57084F87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B9BB2B4-BE60-4957-B232-CB1BE896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9FEFB92-7FA8-4068-AFC9-C361E5B45F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BC58D5C-A571-4403-A3A2-8621C78DE9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13831D0-9DC8-4E25-9F8E-683432B4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5C7B418-A661-4A14-8E4B-97DB6350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9E17511-FC64-4550-B1AA-242EC51A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6247F0A-A7D1-4A37-A3F7-425A6C04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C5DB-A8B6-4A9D-8974-8CA5FBE0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495934D-E498-45A0-AFAD-15BFF83E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A96F8E9-2D33-4124-BA6D-C8DA81E0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A8DE520-D100-403C-804A-0DD98907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6438C3A-7088-4BB8-B5DD-63C5B580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2E36AC1-B917-4C34-BCAD-4C4201F3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CAAE2B8-CD2E-48A0-8F1D-A50B7265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7938FB0-337D-482A-9415-77140B13D8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20AE13-B931-4E68-914D-E61E159772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749ED5-0737-476F-8AD3-11C5CCE6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3EFD63-B669-430B-8835-1DF9D7DC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1B92-768F-4CDB-A961-A9C0514C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EF7794-6107-4902-89E4-313C38F9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BF3D23-374F-4254-AF25-ABB51F30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34DF73-A175-4A39-8017-89415F87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0098B2-430A-4107-A2EE-D845F828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3C5D32-DFDB-4846-8F2A-820428A3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2A9025-D7B9-4709-9B93-9D544D12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1ED322-5804-46B1-B8B5-E52C0BA1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DB7993-62E4-4A25-B327-E0524A49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EF491C-AA61-4844-B5DB-C628AABD14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3631B5-97CA-4F61-B531-F9CA676CDD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50ED-2925-4921-9C98-CCAE7BCA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9B378D7-7B01-4220-BB39-E2491DB9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49B0782-71F0-42E7-BD76-47B11892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B029A6A-94A2-44CB-9792-B13A2236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E043D16-39C5-44F7-8B08-83FFCFE3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EF7D086-1108-4A58-B3B4-7B06F11D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E6AEAEC-7CA0-405F-B2BD-C4233B28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1C016D8-0469-44AB-AC5D-68C4EDB1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2AECBE6-29F7-49CD-8A96-F026B547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166A332-2575-4964-AEBF-A3542C96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EFACBDB-A3A4-4273-88B6-020BCF9C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9DC2-ECD1-4320-822E-6507736483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705D52-1996-449D-906F-8CD10631A6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97F64F2-444A-4269-964F-8ACBD6E06E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4442816-CB5D-4859-B652-AF12EE19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566EAF7-D8A8-49A6-AC67-6BD7FACE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E741B2D-9455-45CD-967C-EF263524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B88CD84-3296-4752-8DA0-C764B296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DE588A3-E84E-4EBF-A6FC-B4AC1A7A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D4032F6-A111-4551-9990-98FB14B7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792F1EE-5C85-41BF-A5B5-3473CE98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921EE96-205B-489B-89FC-3FFCAB24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C1BCC-FB66-4D00-BFB8-4D65A1DE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66AC53A-EF0C-419A-B6CA-793675D5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01073DC-CA7A-48BE-A1FC-B4E4A601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94BC885-CDD8-482C-BE22-0BCC150542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00DCA1-63C8-4651-891C-40F93A3757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F9151B-E3CC-4D46-A057-4CF4FF74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75E782-0AA7-4749-9A1A-2842DA66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036979-7118-40B5-B774-1105E887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501F28-AA2D-4F63-8372-ADA3B0E6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94BB49-4A11-4B42-99BC-DD5702E3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A25675-F158-4B3E-9D92-6C513DB6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3A524-19B8-4225-91C6-37C922F2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9B018C-5B87-49C1-843D-D66C1EBB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B7C5A7-E937-4B5E-B530-4CC60613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B636E7-3ED9-4A81-B227-E5F747CB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E86408-46C8-4C52-A7B4-60F6583C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A93830-1459-4A69-8503-5533B42D39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063765D-BA5E-45D8-86C6-6C113B0249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E652938-1F6D-4A5C-9150-A23E4B83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091806F-AD59-4A93-B80A-9299FE7E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41071FC-ED7B-4512-9F97-E398F69C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E179D8B-1975-4257-A86E-CCE95A71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DC3D6-14D8-43C2-868B-21FE1D4E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9FC93B8-6D0F-45BD-A35E-5183ACCE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40AB302-810B-45D3-8A78-EC11713E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1BEFEE8-F142-457D-AFFB-6612A22A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CFDBA8C-E97E-4DB4-8F1C-BC5E3543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EE1A3BE-AFF9-4AEC-921C-28E44EFD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79454B1-68F1-4DC5-8409-04447A45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A852B4A-A635-46D7-A3A4-F64461B3EB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DC80D89-998C-42B2-AF64-3DC2F8C26F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65EA2F3-DB26-4CD7-81DE-A6FF2458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DC99B5C-B336-43A8-9F37-68BC88AF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4A417-009E-48EA-9492-7B5A4C25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95B5E-0DAA-461B-9732-53EB9452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1A33691-9B09-40DF-9557-F5C09FC6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39167FD-D225-4F73-AE84-F539076F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E66C3D1-901A-479A-8371-F218C287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A18785B-062B-495C-8D93-33BF3588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0ACCC3F-0E2E-42AF-B856-CA1569EB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6893668-0582-4BE1-B42F-3F0B5E5F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2877BBA-8E20-4CC0-9F24-5209421E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999350F-B986-4947-B23B-2D4777F5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9B5F5A2-5D5E-4EE4-9E76-627B0463F4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47935F-C8EB-40DD-91D3-86107C41EF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A0C5F-6DCE-4BB5-8863-FC0EF78B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35EB92-6D40-462B-8115-A30C35B2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F89ADF-A57D-42B4-ADC6-9DA86F9C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ABFFF5-911A-4F50-806C-5B761A56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98BA47-22F9-49A9-8691-1E0C8E90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247F06-EAAB-4C9E-BF0E-BB80AB88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9ACB09-524F-4BC4-A446-6953573D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822767-CD6E-4462-996D-E0353320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E3D076-9B59-4715-BC99-2E875209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875606-3EFE-4084-B0ED-A7DBE7F0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C29F0C-7F8B-47C0-B40C-8009B107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C05ED-ECC9-4604-ABD3-A461D37D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A30653-9337-4E0D-B48D-97DCBCAC96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55B44B0-BFDC-423A-BDD0-86EB939663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3CE31B3-04A8-49DC-9055-62CE9739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547F94C-4418-4987-BBB6-A8F66A79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A08872D-8679-4A83-8BFC-DDB0E75B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1DE7331-2E0C-4199-B9CC-1120A3AB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A898EEC-2CF1-4886-AE86-4DE9960C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18CCF21-FAAA-4EF0-B720-8DF16792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7852438-1703-4E36-A507-D780E8A1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F9D963A-DCA1-44D3-B04F-1B12FE0B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571C3-DEBD-41F9-B7FA-009442F6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40818B0-7785-4CB0-BC01-EBB119A1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32889DC-B6A7-443F-BC4A-C24232B2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EE35443-0797-4757-85D8-3FE12C46AC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B63B038-61E6-499A-8F70-7E8A979687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69E0AB8-EE21-4B23-A787-2D7E879B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D1A2A42-B355-4095-8059-69468697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879E3C8-06DD-42EC-894F-FD959998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B57418A-EDBA-44BC-9B3A-70CB0BE5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050BF52-8E8C-48E2-B595-F8EF1565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DA62594-AC7E-4543-8BDD-B47ABA93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49B05-95A1-4B4D-94A3-53FD84DE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C8B0F21-F3B2-4E84-9017-1F9FE351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5D0963E-C326-428F-85C1-B0BB6B80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28FD974-8146-438F-8BC7-7D0FFDD0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F3F1BFE-3AE6-4351-8620-C5C1156D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EB1E62D-1967-473B-8CA1-51DCDA94ED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A46D24-1BE8-497B-8DC3-FE8A3A1842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DAA602-06AA-480A-B750-50B3C051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3233D8-A389-43F0-A50A-DAEB00B2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49B6ED-F4D8-487C-B2C2-112E78EE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8BD082-8730-4AF2-88F0-8092DD12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2B8AC-8D3F-4815-9113-8657943D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ED2630-220E-4E2C-863C-0061E610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62172A-BC53-454E-A86F-F4810EF0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ACAB05-E161-415E-9E03-0694EFB5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74D3DB-C885-4B2D-AEC4-630E3821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8C8044-5259-479A-8C90-D42070F3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7406B7-9291-4220-9EC6-DCE842C3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4732FB-7796-4844-A201-305C048486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F5FF47-51CB-4938-8CA6-F14B71B2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562373-A2C7-4F0A-B860-A171DF1C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532C33-2D44-4D45-BCE9-E21E4268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BB5DD-2E14-4AE0-87DD-CBC08DF9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36B10A-FD4B-4765-AC0F-43D58561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F2CA73-1FF3-42AA-894B-A5DD5326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C84C53-9D90-420B-84CC-C3FE0569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CAFD4E-7BCF-4BC7-AC17-6DA6B8F1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82C66D-208A-4A6A-86C1-5E342AE4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7F6A1B-FBF9-44EF-9AF8-ABA65C64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44B610-EAFA-4510-9F17-E6DF24DA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3A275B-5FA2-4363-9003-34E5E5EC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74FF0C-C390-4957-AE1E-2CFDC6F6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2903D2-1F17-457E-97DE-CD31D6D2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ED0A-F0FB-4ADC-A894-1F458AEA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F7161C-3ED1-4F36-90D5-FF794F28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1E933E-B34F-43C1-9EEF-94304117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B1ED03-1E5E-45C3-9DE9-C7F864DE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57A164-B19F-437E-9F95-52F75FA9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04777E-361A-4EE7-9EA9-68E99475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4FAB41-F809-4C50-8402-AA93E79E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391FEB-A012-43B8-88A5-6AC2CC57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8390B5-F56E-4171-A762-B9F33840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5A8856-5A7C-4834-BAB3-CBCFDCDA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F344EA-3D60-4DDB-A825-73F21FE9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796F7-3914-4557-B750-B0483483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776397-50F1-440B-8AF1-66065328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BFCB65-0F3A-4C77-9096-CB25D795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E9ABD1-A32E-454D-8CD0-7F6CA8A2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382A03-093C-4D62-80EF-A01889C5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1C9CDC-529B-4D60-984D-3A9140AA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0A35CD-41AA-431E-A4ED-2AF30CC0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3D23E5-3227-4537-97E2-AE7B8D8F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52DF7B-7171-404B-A579-B0C4DC17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CAB9D5-FDE0-4220-8A37-88EFED68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19EE1F-DAD3-4A9B-AEBB-80A746FF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79FEA-6B91-43AA-9A02-4082F4DB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FA2FCC-6A3B-458F-9493-07398949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6966E4-2445-45A1-B964-ED5F0BF1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7A1FE5-1118-4878-BF01-E6DC3371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B25D40-693C-4309-91A3-963DCF20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8C8453-C84A-4B4A-B31F-D13FAF4E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D01C91-E6C3-4681-AC62-13F29B90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640518-88D7-4E3D-84A6-C28B995B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52E746-0406-4AF9-A6A9-FFEDF948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2AB568-22C2-4CA3-B259-908B0F1B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2B3935-26BF-41D7-9589-4BEE5DE9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16E2-6703-48D3-AA8B-88E9822B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4FFAB-9CFC-4A4D-9922-10873432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2D6DCF-6088-4198-B348-66991C5D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CDB341-AA73-4092-9B0B-D5DFAB71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F51379-1131-40FE-B7DD-ACD8A980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E3CACC-55BB-4261-B979-82FE6B70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91902F-CB10-483F-8BF9-8FDFF2C4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F5D9E1-B0F5-4A2F-97D1-D1F3031F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135F57-9C41-4D00-8B3C-560EFDC9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539775-32CC-40A6-8864-C77054D3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3252D2-9888-4EE7-B082-81698468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D06DAA-6109-4313-8247-302ABB34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1584B-238E-43DB-AB6C-BE20B717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07CB08-4235-4AF4-83AF-1B1BF02C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C4F17B-CA0E-48D6-A8E5-2DC2F4D4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738158-B60A-4BA3-95F6-6250BFD4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3990C5-5FE3-4E93-A9BE-9734CA5D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B5E044-479C-4467-99A5-094ACEA0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2A685A-D183-4CDC-BDF6-83EB44A7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6629C3-91DF-4C89-9ADE-B3F2BA09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1276DF-26AC-491C-8D4A-9A399C99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96AB33-B2D5-44A5-B334-4E0C4D53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817B35-1B93-4D7F-8884-0A72C3D8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D78CE-4C40-4802-A7B7-9A5AC026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3DB4E0-A2A1-4529-86EA-E693BB02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1B485F-7126-4372-BE10-4CE121EE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9E9FFA-CF11-4DB8-B3D3-CEF8CE44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A5E6E5-47AC-4F9D-8675-86C5D1B4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F024CAD-05B3-4527-B4F1-57410D30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FB8D0B-0676-4E2B-AB7B-3C6E7BDF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0DBFBC-4F50-4CDB-B494-34A0BE9D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18027C-0D6A-4FF9-9929-0F54E97D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0D97C4-E50D-44AF-B4A8-D7C10AAE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060A17-674B-402B-B2F8-CB316B59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48F08-2F5F-4ED3-BF95-443B4725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7B1A43-E4F9-4776-8242-4BEBBFA2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80EF89-BEC6-47F4-8FE5-B9229941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1A8076-16FB-4A49-A409-D8497AE9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B33CC8-D7D7-48E4-91EC-E5A1427E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014F7D-0B3D-4FA6-88A4-65D64D93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5632E4-3B60-4669-A538-C8D64E02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7AD9B5F-E50A-46C5-A972-0E570381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D443DB-37DC-46FE-B203-2DACE103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10C9C7-541B-44EC-8705-553E7960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AFF79E-3296-4AAA-AA82-04040C80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29321-D648-40CA-8449-1A224BB2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4EEA02-90D6-4998-8AD8-9528FDDF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E5370E-8AD6-4A43-9A12-EA77E810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BB9045-6299-4ED7-9D06-BDDF184A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2F1998-2DE6-41AE-A4C7-1505BF2A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86BBBD-23DB-4641-B9EA-632A0F61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522886B-F093-4323-ACDD-0BF50FC3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BEA8D43-D19A-4928-B3BC-CB109B4F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6C9D60-3E8D-4202-BE90-8990EFF1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4FE454-5BCF-4535-B2E2-4D0CF6BC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CB3BA4-F7DA-4E70-8B0F-6AFC7E36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FCC3B-F888-4AF9-AE1D-E6E1CB37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93753E-38A2-4F76-B17A-7DB391F3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081443-3FF8-4D33-AFAF-EB5BF239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A7A7BF5-3230-4A8A-8988-971C43BC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33FDD6-77F0-4428-B1DF-6648E6FC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5C5EEF1-C6FB-4B0C-9984-66D521FB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21A14DD-84C5-49F2-BF6D-D3FFA612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356E0B-F870-4F4A-BA98-546F7DEB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91BDFEB-55A1-4D67-BC5B-BD1AD319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2A4523-7D6F-4578-BA3B-B4A84795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0E3FE54-298A-4965-A589-CD20FBFB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C09B7-4487-4DC5-9762-30C9D284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6948AD-0777-4A87-848E-B91F7B02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7BA1A5-9287-404D-ABD0-3928DA95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175CD2-8E14-4E78-8AA1-DE4B0A7A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669CA1-2D0A-4091-A93F-E641E649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9D87A7-40A2-40BA-9E46-FE553246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F9EA6DC-F857-49BA-B12B-FDBEFCD9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8E64DA-2E14-4DE5-8E5F-D83C35FC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8C8271-4330-4DC4-94B4-0DD87ECC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A2CCDC-D409-4CE9-BE8B-78BBB582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4EFC8F9-A800-4137-8756-48A42764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6609B-0735-47D1-B8E8-58360921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F8C487-25A4-4E50-A9AF-AEDE741F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3D4C97-03AF-4701-BF60-CCFB5373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E8E4CAF-A88F-48C1-A8D0-70B22C91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C381B6-8728-4017-B7DD-65DA9370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77B99A-AD51-4850-9141-F15E3C1E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AD1FCD-2335-4B2E-AB65-6631146C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C55230-3661-4BF6-A39B-143B786E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6F22C90-8632-418A-A478-AB4ACF0D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A69472-99F8-4C39-B46B-A43BB818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93622FA-D019-413E-96D8-6F9C8AF4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1177A-1A15-4B12-BD28-D53195F4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11A1292-3638-4F87-88DE-A02873C0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00A4944-A322-4B13-AACA-307AF857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7DD9115-8C28-4C29-BD05-4F0FC28E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95B8D6A-B98A-4C05-9BB5-1340F50D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50A1407-1D78-4152-938A-69BE9BA5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2943D0-348C-45FE-90EA-9253647B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0DB9EC-1AE6-4E6A-A4E2-C42F6308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A500C1-D2C5-446C-94FF-43D48636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9DCDFD-10D3-42DC-B8D6-AAEE31E6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6CD54-76F3-46D0-B41D-E02688A9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1B738-7150-4EF8-A00C-F7987574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8CB08-216C-4F87-BD28-2A29D58B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CB618-ADCA-4E16-AF1A-6FDA3482A0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A4D15-841B-486C-BF9E-B7C308B1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F0AF1-907A-4FF7-AFC1-A2941741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3E7041-919D-4E7E-9001-7319CB38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A1F1B-4701-4758-AF5E-0DE75DCC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0C189D-9C1B-4CFC-A1AF-245CB651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DC574E-7BDD-466F-97CC-615E91D1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F94636-2737-4EE4-AC50-5245D703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32F42-3515-47BE-8F70-77B4E911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297C7-8334-42C5-B28F-DC13225D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695332-94F1-47A8-A9D3-71C630D3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B5E4C-AE43-450D-B26B-A7703523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93BB60-BCCD-4E0C-A2AA-AE9D9C55C5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D607C6-31CC-4276-AD38-B351093C04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0305CF-3DF5-46F4-ABE5-C9AD621A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BE41C6-0A26-43EE-B541-60F94CC5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F459A7-B899-4920-9D23-25EC7483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22A923-51B5-408E-8339-595A44CD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C81AF7-9883-42C5-85EA-91A71792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8F3923-47C9-4778-93FA-872E0BEB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2E8F0-AF74-4ED9-8B3F-F4CC109D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DA290A-6648-4412-9013-89B12DEA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49AC79-B15B-47FA-AD57-BD115278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C7045F-6B7F-43C0-9CBA-62FB0154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C2C19D-0CA9-47E2-BEDC-9159D540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63612C-0123-462A-AC1E-A5F476D49C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0B0B6-16A1-4DAA-9D32-5CD4737BBE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CF303-34C5-4AB5-A8B2-87DF7BA7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49142-9A6D-4035-BA90-FDE641A4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4D7D4-1DE3-4B79-955F-0FFE2394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F4F95-3C8B-40E2-AFD1-7F777F66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0F87F-E77F-4706-A18F-205E4254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23440" y="243000"/>
            <a:ext cx="65739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C6ED2-185D-4FFD-81FF-EB90892E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5554A-3E87-4F10-BFEC-AB9E08E4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D94F6-73CC-401B-8EF2-F6356EDC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33096-96A2-40A2-A66D-D46E3438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3440" y="2734560"/>
            <a:ext cx="6573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03E06-6BAD-447D-AEFC-18A3170D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892320" y="121752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2344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892320" y="2734560"/>
            <a:ext cx="320796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CAA4A-C52A-4BDF-94CC-132EE68B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74608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968720" y="121752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2344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274608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4968720" y="2734560"/>
            <a:ext cx="2116440" cy="13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0A60A-47FD-4349-96C4-81D1EFD8CB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FC022E-B833-4028-B0E6-966ECFE8C7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7FE240-EB39-4AC6-BD4D-B1851440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D81AD7-5C9E-4E96-8A9E-77BD7DD2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Zone de texte 2051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32290DD9-0FDC-43E8-9332-4A80B25FCBDA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Zone de texte 2051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1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22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A917F739-EA30-4698-97EE-CAC2746A0229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Zone de texte 2051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3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24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82E3BE23-105E-4880-9631-C23803EF63BD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Zone de texte 2051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5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6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63319E31-BD60-45C6-8B66-94C03469FECD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Zone de texte 2051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7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8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57140888-A86C-4F3E-BF83-133419B96A7D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Zone de texte 2051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9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30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6E6BC5EA-C22F-40CC-ADE6-07CA48E8D67C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Zone de texte 2051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32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5B33B136-59E5-4787-8592-8E482E3D815A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Zone de texte 2051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33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sldNum" idx="34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71638CA6-A0DB-42C1-99CF-046A32167B2C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Image 3072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659" name="Zone de texte 3076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5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36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4BA4C811-0200-4BBA-81EF-AF8C6EC029E8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Image 3072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701" name="Zone de texte 3076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37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sldNum" idx="38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B5B2E995-E2DD-4A2D-85A2-087065700CF3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Image 3072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743" name="Zone de texte 3076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39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sldNum" idx="40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2DCB884F-E7A3-4AC8-86DA-00BF0C62718A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3072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Zone de texte 3076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E215B8F3-3ED4-4242-B02E-B7194DD1EE0A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Image 3072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785" name="Zone de texte 3076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1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sldNum" idx="42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A56FE4A1-0D97-421A-ADB5-C572172533E6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Image 3072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827" name="Zone de texte 3076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dt" idx="43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sldNum" idx="44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DADEADFC-1744-45C6-885A-7B6BAEFFF27C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Image 3072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869" name="Zone de texte 3076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45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sldNum" idx="46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23C8FBF3-2467-4102-AEF0-B028AA54F29C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Image 3072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911" name="Zone de texte 3076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47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sldNum" idx="48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E23A7ADC-7154-4BD6-90AC-5F121109025A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Image 3072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953" name="Zone de texte 3076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dt" idx="49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sldNum" idx="50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0852330A-17D7-4E3F-8F95-F2E465F4CE3D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Image 3072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995" name="Zone de texte 3076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51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sldNum" idx="52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F7310796-58A4-4DA0-ADF4-D6104C1E6F2F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Image 3072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1037" name="Zone de texte 3076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53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sldNum" idx="54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1241F6ED-F82E-4860-8DDD-AD1774B0C295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Image 3072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1079" name="Zone de texte 3076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55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56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0DA022A9-4B71-40D0-A076-13589F62401F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Image 6144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1121" name="Zone de texte 6148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 type="dt" idx="57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 type="sldNum" idx="58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37DA83BD-9003-457B-B446-118AE8A7D3D5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Image 6144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1163" name="Zone de texte 6148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59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sldNum" idx="60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FA892044-5F25-4090-8405-B99F97269455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6144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one de texte 6148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C9E57372-B535-479B-8586-2B1F9E039311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Image 6144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1205" name="Zone de texte 6148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dt" idx="61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sldNum" idx="62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8B8CD364-C1C9-4C80-9DCB-5DF16DE1EA3B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6" name="Image 6144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1247" name="Zone de texte 6148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dt" idx="63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sldNum" idx="64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3DFF1489-09E0-4005-A61F-C2770D84400F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Image 6144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1289" name="Zone de texte 6148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65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sldNum" idx="66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743527DD-A998-43F7-B202-7BDDBF171AFD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0" name="Image 6144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1331" name="Zone de texte 6148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dt" idx="67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 type="sldNum" idx="68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CAD6D9B7-D437-43B7-8D0E-C0F62320578B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Image 6144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1373" name="Zone de texte 6148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 type="dt" idx="69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 type="sldNum" idx="70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960E4C54-87A2-42B8-AF80-916511F15A1D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Image 6144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1415" name="Zone de texte 6148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 type="dt" idx="71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 type="sldNum" idx="72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5F9C06F8-CB4A-4C7C-AD3B-7A71FB84DA85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Image 6144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1457" name="Zone de texte 6148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 type="dt" idx="73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 type="sldNum" idx="74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78FC5C55-AD1C-496C-968C-0624CF4D039B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Image 6144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1499" name="Zone de texte 6148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 type="dt" idx="75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 type="sldNum" idx="76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33AF7675-837B-43EB-B595-2D122CEF822D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Image 6144" descr=""/>
          <p:cNvPicPr/>
          <p:nvPr/>
        </p:nvPicPr>
        <p:blipFill>
          <a:blip r:embed="rId2"/>
          <a:stretch/>
        </p:blipFill>
        <p:spPr>
          <a:xfrm>
            <a:off x="339840" y="4267080"/>
            <a:ext cx="6481800" cy="193680"/>
          </a:xfrm>
          <a:prstGeom prst="rect">
            <a:avLst/>
          </a:prstGeom>
          <a:ln w="0">
            <a:noFill/>
          </a:ln>
        </p:spPr>
      </p:pic>
      <p:sp>
        <p:nvSpPr>
          <p:cNvPr id="1541" name="Zone de texte 6148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 type="dt" idx="77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 type="sldNum" idx="78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2FB34335-F0F5-4177-B341-FD8A0CC7A524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287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7142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0000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 type="dt" idx="79"/>
          </p:nvPr>
        </p:nvSpPr>
        <p:spPr>
          <a:xfrm>
            <a:off x="52344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 type="ftr" idx="80"/>
          </p:nvPr>
        </p:nvSpPr>
        <p:spPr>
          <a:xfrm>
            <a:off x="2523600" y="4239720"/>
            <a:ext cx="2573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 type="sldNum" idx="81"/>
          </p:nvPr>
        </p:nvSpPr>
        <p:spPr>
          <a:xfrm>
            <a:off x="538272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F369FD02-F0D9-40EB-A254-C0B628F9BDBE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287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7142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0000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52344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07/15/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2523600" y="4239720"/>
            <a:ext cx="2573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538272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0FCC2C08-7B8A-479E-B5F4-8E0CBC1BAD6C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287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7142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0000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 type="dt" idx="82"/>
          </p:nvPr>
        </p:nvSpPr>
        <p:spPr>
          <a:xfrm>
            <a:off x="52344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 type="ftr" idx="83"/>
          </p:nvPr>
        </p:nvSpPr>
        <p:spPr>
          <a:xfrm>
            <a:off x="2523600" y="4239720"/>
            <a:ext cx="2573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 type="sldNum" idx="84"/>
          </p:nvPr>
        </p:nvSpPr>
        <p:spPr>
          <a:xfrm>
            <a:off x="538272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DF778D7C-574F-408C-9580-60F1BA03E115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287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7142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0000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dt" idx="85"/>
          </p:nvPr>
        </p:nvSpPr>
        <p:spPr>
          <a:xfrm>
            <a:off x="52344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 type="ftr" idx="86"/>
          </p:nvPr>
        </p:nvSpPr>
        <p:spPr>
          <a:xfrm>
            <a:off x="2523600" y="4239720"/>
            <a:ext cx="2573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 type="sldNum" idx="87"/>
          </p:nvPr>
        </p:nvSpPr>
        <p:spPr>
          <a:xfrm>
            <a:off x="538272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7B8EE53A-DDF3-45A5-BB95-DBAE04ADA03C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287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7142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0000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 type="dt" idx="88"/>
          </p:nvPr>
        </p:nvSpPr>
        <p:spPr>
          <a:xfrm>
            <a:off x="52344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 type="ftr" idx="89"/>
          </p:nvPr>
        </p:nvSpPr>
        <p:spPr>
          <a:xfrm>
            <a:off x="2523600" y="4239720"/>
            <a:ext cx="2573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 type="sldNum" idx="90"/>
          </p:nvPr>
        </p:nvSpPr>
        <p:spPr>
          <a:xfrm>
            <a:off x="538272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EE566B0F-1968-44C5-9933-304CF4D3D96A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287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7142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0000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 type="dt" idx="91"/>
          </p:nvPr>
        </p:nvSpPr>
        <p:spPr>
          <a:xfrm>
            <a:off x="52344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 type="ftr" idx="92"/>
          </p:nvPr>
        </p:nvSpPr>
        <p:spPr>
          <a:xfrm>
            <a:off x="2523600" y="4239720"/>
            <a:ext cx="2573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 type="sldNum" idx="93"/>
          </p:nvPr>
        </p:nvSpPr>
        <p:spPr>
          <a:xfrm>
            <a:off x="538272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3245F59C-662F-4612-AA1A-34FAB183F95C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287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7142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0000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 type="dt" idx="94"/>
          </p:nvPr>
        </p:nvSpPr>
        <p:spPr>
          <a:xfrm>
            <a:off x="52344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 type="ftr" idx="95"/>
          </p:nvPr>
        </p:nvSpPr>
        <p:spPr>
          <a:xfrm>
            <a:off x="2523600" y="4239720"/>
            <a:ext cx="2573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 type="sldNum" idx="96"/>
          </p:nvPr>
        </p:nvSpPr>
        <p:spPr>
          <a:xfrm>
            <a:off x="538272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05F1FDD1-15B9-4683-B939-AFB95485FDE2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287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7142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0000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 type="dt" idx="97"/>
          </p:nvPr>
        </p:nvSpPr>
        <p:spPr>
          <a:xfrm>
            <a:off x="52344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 type="ftr" idx="98"/>
          </p:nvPr>
        </p:nvSpPr>
        <p:spPr>
          <a:xfrm>
            <a:off x="2523600" y="4239720"/>
            <a:ext cx="2573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2" name="PlaceHolder 5"/>
          <p:cNvSpPr>
            <a:spLocks noGrp="1"/>
          </p:cNvSpPr>
          <p:nvPr>
            <p:ph type="sldNum" idx="99"/>
          </p:nvPr>
        </p:nvSpPr>
        <p:spPr>
          <a:xfrm>
            <a:off x="538272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5C586CCF-8189-42F8-B31B-EB857999867C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 type="body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287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7142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0000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 type="dt" idx="100"/>
          </p:nvPr>
        </p:nvSpPr>
        <p:spPr>
          <a:xfrm>
            <a:off x="52344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 type="ftr" idx="101"/>
          </p:nvPr>
        </p:nvSpPr>
        <p:spPr>
          <a:xfrm>
            <a:off x="2523600" y="4239720"/>
            <a:ext cx="2573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 type="sldNum" idx="102"/>
          </p:nvPr>
        </p:nvSpPr>
        <p:spPr>
          <a:xfrm>
            <a:off x="538272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1EFBAF8C-6789-4A1F-808E-895766CCAB02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287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7142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0000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 type="dt" idx="103"/>
          </p:nvPr>
        </p:nvSpPr>
        <p:spPr>
          <a:xfrm>
            <a:off x="52344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 type="ftr" idx="104"/>
          </p:nvPr>
        </p:nvSpPr>
        <p:spPr>
          <a:xfrm>
            <a:off x="2523600" y="4239720"/>
            <a:ext cx="2573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4" name="PlaceHolder 5"/>
          <p:cNvSpPr>
            <a:spLocks noGrp="1"/>
          </p:cNvSpPr>
          <p:nvPr>
            <p:ph type="sldNum" idx="105"/>
          </p:nvPr>
        </p:nvSpPr>
        <p:spPr>
          <a:xfrm>
            <a:off x="538272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4D649365-8390-412B-8EBB-5E03F9439CBE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 type="body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287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7142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0000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 type="dt" idx="106"/>
          </p:nvPr>
        </p:nvSpPr>
        <p:spPr>
          <a:xfrm>
            <a:off x="52344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 type="ftr" idx="107"/>
          </p:nvPr>
        </p:nvSpPr>
        <p:spPr>
          <a:xfrm>
            <a:off x="2523600" y="4239720"/>
            <a:ext cx="2573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5" name="PlaceHolder 5"/>
          <p:cNvSpPr>
            <a:spLocks noGrp="1"/>
          </p:cNvSpPr>
          <p:nvPr>
            <p:ph type="sldNum" idx="108"/>
          </p:nvPr>
        </p:nvSpPr>
        <p:spPr>
          <a:xfrm>
            <a:off x="538272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229AF048-E38F-4E4F-AB3A-93ABD59160CB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287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7142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0000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dt" idx="109"/>
          </p:nvPr>
        </p:nvSpPr>
        <p:spPr>
          <a:xfrm>
            <a:off x="52344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ftr" idx="110"/>
          </p:nvPr>
        </p:nvSpPr>
        <p:spPr>
          <a:xfrm>
            <a:off x="2523600" y="4239720"/>
            <a:ext cx="2573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6" name="PlaceHolder 5"/>
          <p:cNvSpPr>
            <a:spLocks noGrp="1"/>
          </p:cNvSpPr>
          <p:nvPr>
            <p:ph type="sldNum" idx="111"/>
          </p:nvPr>
        </p:nvSpPr>
        <p:spPr>
          <a:xfrm>
            <a:off x="538272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6D7C188D-63F9-422A-A5FE-C01C79B3C313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3440" y="243000"/>
            <a:ext cx="6573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23440" y="1217520"/>
            <a:ext cx="65739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287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7142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0000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1285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52344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07/15/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2523600" y="4239720"/>
            <a:ext cx="2573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5382720" y="4239720"/>
            <a:ext cx="1714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E7D8B37E-7C75-41D2-B2EF-0855C0902814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Zone de texte 2051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4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54936D5C-E17C-4B84-88C4-DD3B94957767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Zone de texte 2051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5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6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B392DFD4-3296-4A83-B598-88AC3F2F1C65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Zone de texte 2051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7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8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017DBE02-D040-4E5E-884A-5EF1FBE2492E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Zone de texte 2051"/>
          <p:cNvSpPr/>
          <p:nvPr/>
        </p:nvSpPr>
        <p:spPr>
          <a:xfrm>
            <a:off x="2525760" y="4248000"/>
            <a:ext cx="2570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23800" y="243000"/>
            <a:ext cx="6572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23800" y="1217160"/>
            <a:ext cx="6572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6640" indent="0">
              <a:lnSpc>
                <a:spcPct val="90000"/>
              </a:lnSpc>
              <a:spcBef>
                <a:spcPts val="1888"/>
              </a:spcBef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06640" indent="-206640">
              <a:lnSpc>
                <a:spcPct val="90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523440" y="4247640"/>
            <a:ext cx="17161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sz="8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8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07/15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sldNum" idx="20"/>
          </p:nvPr>
        </p:nvSpPr>
        <p:spPr>
          <a:xfrm>
            <a:off x="5381640" y="4247640"/>
            <a:ext cx="171432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  <a:defRPr b="0" lang="en-US" sz="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4320"/>
                <a:tab algn="l" pos="217008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0AF9283F-880F-4CFA-B940-74FD63F15DDB}" type="slidenum">
              <a:rPr b="0" lang="en-US" sz="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Rectangle 11264"/>
          <p:cNvSpPr/>
          <p:nvPr/>
        </p:nvSpPr>
        <p:spPr>
          <a:xfrm>
            <a:off x="133200" y="797040"/>
            <a:ext cx="7382160" cy="2759040"/>
          </a:xfrm>
          <a:prstGeom prst="rect">
            <a:avLst/>
          </a:prstGeom>
          <a:solidFill>
            <a:srgbClr val="203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2" name="Zone de texte 11265"/>
          <p:cNvSpPr/>
          <p:nvPr/>
        </p:nvSpPr>
        <p:spPr>
          <a:xfrm>
            <a:off x="3755880" y="1944720"/>
            <a:ext cx="35038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370160"/>
                <a:tab algn="l" pos="2741760"/>
                <a:tab algn="l" pos="4111560"/>
                <a:tab algn="l" pos="5483160"/>
                <a:tab algn="l" pos="6854760"/>
                <a:tab algn="l" pos="8224920"/>
                <a:tab algn="l" pos="9596520"/>
                <a:tab algn="l" pos="10968120"/>
                <a:tab algn="l" pos="12337920"/>
                <a:tab algn="l" pos="13709520"/>
                <a:tab algn="l" pos="1508112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DPC </a:t>
            </a:r>
            <a:r>
              <a:rPr b="0" sz="2400" spc="-1" strike="noStrike">
                <a:solidFill>
                  <a:srgbClr val="ff0000"/>
                </a:solidFill>
                <a:latin typeface="Arial"/>
              </a:rPr>
              <a:t>Touch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 V2</a:t>
            </a:r>
            <a:br>
              <a:rPr sz="3300"/>
            </a:br>
            <a:br>
              <a:rPr sz="2200"/>
            </a:br>
            <a:br>
              <a:rPr sz="2000"/>
            </a:br>
            <a:r>
              <a:rPr b="1" sz="2000" spc="-1" strike="noStrike">
                <a:solidFill>
                  <a:srgbClr val="ffffff"/>
                </a:solidFill>
                <a:latin typeface="Arial"/>
              </a:rPr>
              <a:t>PowerPoint modèle d'ima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70160"/>
                <a:tab algn="l" pos="2741760"/>
                <a:tab algn="l" pos="4111560"/>
                <a:tab algn="l" pos="5483160"/>
                <a:tab algn="l" pos="6854760"/>
                <a:tab algn="l" pos="8224920"/>
                <a:tab algn="l" pos="9596520"/>
                <a:tab algn="l" pos="10968120"/>
                <a:tab algn="l" pos="12337920"/>
                <a:tab algn="l" pos="13709520"/>
                <a:tab algn="l" pos="1508112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au format adapté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70160"/>
                <a:tab algn="l" pos="2741760"/>
                <a:tab algn="l" pos="4111560"/>
                <a:tab algn="l" pos="5483160"/>
                <a:tab algn="l" pos="6854760"/>
                <a:tab algn="l" pos="8224920"/>
                <a:tab algn="l" pos="9596520"/>
                <a:tab algn="l" pos="10968120"/>
                <a:tab algn="l" pos="12337920"/>
                <a:tab algn="l" pos="13709520"/>
                <a:tab algn="l" pos="1508112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70160"/>
                <a:tab algn="l" pos="2741760"/>
                <a:tab algn="l" pos="4111560"/>
                <a:tab algn="l" pos="5483160"/>
                <a:tab algn="l" pos="6854760"/>
                <a:tab algn="l" pos="8224920"/>
                <a:tab algn="l" pos="9596520"/>
                <a:tab algn="l" pos="10968120"/>
                <a:tab algn="l" pos="12337920"/>
                <a:tab algn="l" pos="13709520"/>
                <a:tab algn="l" pos="1508112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70160"/>
                <a:tab algn="l" pos="2741760"/>
                <a:tab algn="l" pos="4111560"/>
                <a:tab algn="l" pos="5483160"/>
                <a:tab algn="l" pos="6854760"/>
                <a:tab algn="l" pos="8224920"/>
                <a:tab algn="l" pos="9596520"/>
                <a:tab algn="l" pos="10968120"/>
                <a:tab algn="l" pos="12337920"/>
                <a:tab algn="l" pos="13709520"/>
                <a:tab algn="l" pos="1508112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3" name="Rectangle 11269"/>
          <p:cNvSpPr/>
          <p:nvPr/>
        </p:nvSpPr>
        <p:spPr>
          <a:xfrm>
            <a:off x="3836880" y="2009880"/>
            <a:ext cx="571680" cy="47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4" name="Rectangle 11271"/>
          <p:cNvSpPr/>
          <p:nvPr/>
        </p:nvSpPr>
        <p:spPr>
          <a:xfrm>
            <a:off x="2773440" y="3941640"/>
            <a:ext cx="21016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70160"/>
                <a:tab algn="l" pos="2741760"/>
                <a:tab algn="l" pos="4111560"/>
                <a:tab algn="l" pos="5483160"/>
                <a:tab algn="l" pos="6854760"/>
                <a:tab algn="l" pos="8224920"/>
                <a:tab algn="l" pos="9596520"/>
                <a:tab algn="l" pos="10968120"/>
                <a:tab algn="l" pos="12337920"/>
                <a:tab algn="l" pos="13709520"/>
                <a:tab algn="l" pos="15081120"/>
              </a:tabLst>
            </a:pPr>
            <a:r>
              <a:rPr b="0" sz="900" spc="-1" strike="noStrike">
                <a:solidFill>
                  <a:srgbClr val="203864"/>
                </a:solidFill>
                <a:latin typeface="Arial"/>
              </a:rPr>
              <a:t>www.doga-vissage.fr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45" name="Espace réservé du contenu 6" descr=""/>
          <p:cNvPicPr/>
          <p:nvPr/>
        </p:nvPicPr>
        <p:blipFill>
          <a:blip r:embed="rId1"/>
          <a:stretch/>
        </p:blipFill>
        <p:spPr>
          <a:xfrm>
            <a:off x="590400" y="1090440"/>
            <a:ext cx="2901960" cy="1897200"/>
          </a:xfrm>
          <a:prstGeom prst="rect">
            <a:avLst/>
          </a:prstGeom>
          <a:ln w="0">
            <a:noFill/>
          </a:ln>
        </p:spPr>
      </p:pic>
      <p:pic>
        <p:nvPicPr>
          <p:cNvPr id="2046" name="Espace réservé du contenu 3" descr=""/>
          <p:cNvPicPr/>
          <p:nvPr/>
        </p:nvPicPr>
        <p:blipFill>
          <a:blip r:embed="rId2"/>
          <a:srcRect l="4078" t="75742" r="5873" b="0"/>
          <a:stretch/>
        </p:blipFill>
        <p:spPr>
          <a:xfrm>
            <a:off x="5342040" y="2639880"/>
            <a:ext cx="1768320" cy="500040"/>
          </a:xfrm>
          <a:prstGeom prst="rect">
            <a:avLst/>
          </a:prstGeom>
          <a:ln w="0">
            <a:noFill/>
          </a:ln>
        </p:spPr>
      </p:pic>
      <p:pic>
        <p:nvPicPr>
          <p:cNvPr id="2047" name="Picture 7" descr=""/>
          <p:cNvPicPr/>
          <p:nvPr/>
        </p:nvPicPr>
        <p:blipFill>
          <a:blip r:embed="rId3"/>
          <a:srcRect l="0" t="0" r="0" b="81019"/>
          <a:stretch/>
        </p:blipFill>
        <p:spPr>
          <a:xfrm>
            <a:off x="1401840" y="4329000"/>
            <a:ext cx="5232240" cy="5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Espace réservé de la date 1"/>
          <p:cNvSpPr/>
          <p:nvPr/>
        </p:nvSpPr>
        <p:spPr>
          <a:xfrm>
            <a:off x="523800" y="4240080"/>
            <a:ext cx="1714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1370160"/>
                <a:tab algn="l" pos="2741760"/>
                <a:tab algn="l" pos="4111560"/>
                <a:tab algn="l" pos="5483160"/>
                <a:tab algn="l" pos="6854760"/>
                <a:tab algn="l" pos="8224920"/>
                <a:tab algn="l" pos="9596520"/>
                <a:tab algn="l" pos="10968120"/>
                <a:tab algn="l" pos="12337920"/>
                <a:tab algn="l" pos="13709520"/>
                <a:tab algn="l" pos="1508112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07/15/19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9" name="Content Placeholder 3"/>
          <p:cNvSpPr/>
          <p:nvPr/>
        </p:nvSpPr>
        <p:spPr>
          <a:xfrm>
            <a:off x="3879720" y="763560"/>
            <a:ext cx="336888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marL="260280" indent="-2602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sz="1300" spc="-1" strike="noStrike">
                <a:solidFill>
                  <a:srgbClr val="000000"/>
                </a:solidFill>
                <a:latin typeface="Calibri"/>
                <a:ea typeface="Microsoft YaHei"/>
              </a:rPr>
              <a:t>This template can be used for fast and easy creation of graphical messages for DPC Touch V2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260280" indent="-2602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260280" indent="-2602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sz="1300" spc="-1" strike="noStrike">
                <a:solidFill>
                  <a:srgbClr val="000000"/>
                </a:solidFill>
                <a:latin typeface="Calibri"/>
                <a:ea typeface="Microsoft YaHei"/>
              </a:rPr>
              <a:t>These slides are specially formatted to match DPC Touch V2 screen size  (800 x 480 px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260280" indent="-2602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260280" indent="-2602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sz="1300" spc="-1" strike="noStrike">
                <a:solidFill>
                  <a:srgbClr val="000000"/>
                </a:solidFill>
                <a:latin typeface="Calibri"/>
                <a:ea typeface="Microsoft YaHei"/>
              </a:rPr>
              <a:t>Insert your pictures and add necessary information on these slides and then save them as .jpeg images (</a:t>
            </a:r>
            <a:r>
              <a:rPr b="0" sz="1300" spc="-1" strike="noStrike">
                <a:solidFill>
                  <a:srgbClr val="ffd040"/>
                </a:solidFill>
                <a:latin typeface="Calibri"/>
                <a:ea typeface="Microsoft YaHei"/>
              </a:rPr>
              <a:t>File </a:t>
            </a:r>
            <a:r>
              <a:rPr b="0" sz="1300" spc="-1" strike="noStrike">
                <a:solidFill>
                  <a:srgbClr val="ffd040"/>
                </a:solidFill>
                <a:latin typeface="Wingdings"/>
                <a:ea typeface="Wingdings"/>
              </a:rPr>
              <a:t></a:t>
            </a:r>
            <a:r>
              <a:rPr b="0" sz="1300" spc="-1" strike="noStrike">
                <a:solidFill>
                  <a:srgbClr val="ffd040"/>
                </a:solidFill>
                <a:latin typeface="Calibri"/>
                <a:ea typeface="Microsoft YaHei"/>
              </a:rPr>
              <a:t> Save As </a:t>
            </a:r>
            <a:r>
              <a:rPr b="0" sz="1300" spc="-1" strike="noStrike">
                <a:solidFill>
                  <a:srgbClr val="ffd040"/>
                </a:solidFill>
                <a:latin typeface="Wingdings"/>
                <a:ea typeface="Wingdings"/>
              </a:rPr>
              <a:t></a:t>
            </a:r>
            <a:r>
              <a:rPr b="0" sz="1300" spc="-1" strike="noStrike">
                <a:solidFill>
                  <a:srgbClr val="ffd040"/>
                </a:solidFill>
                <a:latin typeface="Calibri"/>
                <a:ea typeface="Microsoft YaHei"/>
              </a:rPr>
              <a:t> File type </a:t>
            </a:r>
            <a:r>
              <a:rPr b="0" sz="1300" spc="-1" strike="noStrike">
                <a:solidFill>
                  <a:srgbClr val="ffd040"/>
                </a:solidFill>
                <a:latin typeface="Wingdings"/>
                <a:ea typeface="Wingdings"/>
              </a:rPr>
              <a:t></a:t>
            </a:r>
            <a:r>
              <a:rPr b="0" sz="1300" spc="-1" strike="noStrike">
                <a:solidFill>
                  <a:srgbClr val="ffd040"/>
                </a:solidFill>
                <a:latin typeface="Calibri"/>
                <a:ea typeface="Microsoft YaHei"/>
              </a:rPr>
              <a:t> .jpg </a:t>
            </a:r>
            <a:r>
              <a:rPr b="0" sz="1300" spc="-1" strike="noStrike">
                <a:solidFill>
                  <a:srgbClr val="ffd040"/>
                </a:solidFill>
                <a:latin typeface="Wingdings"/>
                <a:ea typeface="Wingdings"/>
              </a:rPr>
              <a:t></a:t>
            </a:r>
            <a:r>
              <a:rPr b="0" sz="1300" spc="-1" strike="noStrike">
                <a:solidFill>
                  <a:srgbClr val="ffd040"/>
                </a:solidFill>
                <a:latin typeface="Calibri"/>
                <a:ea typeface="Microsoft YaHei"/>
              </a:rPr>
              <a:t> All slides</a:t>
            </a:r>
            <a:r>
              <a:rPr b="0" sz="13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260280" indent="-2602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260280" indent="-2602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sz="1300" spc="-1" strike="noStrike">
                <a:solidFill>
                  <a:srgbClr val="000000"/>
                </a:solidFill>
                <a:latin typeface="Calibri"/>
                <a:ea typeface="Microsoft YaHei"/>
              </a:rPr>
              <a:t>See the user manual for more detail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260280" indent="-2602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0" name="Image 11270" descr=""/>
          <p:cNvPicPr/>
          <p:nvPr/>
        </p:nvPicPr>
        <p:blipFill>
          <a:blip r:embed="rId1"/>
          <a:stretch/>
        </p:blipFill>
        <p:spPr>
          <a:xfrm>
            <a:off x="5332320" y="150840"/>
            <a:ext cx="1279440" cy="458640"/>
          </a:xfrm>
          <a:prstGeom prst="rect">
            <a:avLst/>
          </a:prstGeom>
          <a:ln w="0">
            <a:noFill/>
          </a:ln>
        </p:spPr>
      </p:pic>
      <p:sp>
        <p:nvSpPr>
          <p:cNvPr id="2051" name="Content Placeholder 3"/>
          <p:cNvSpPr/>
          <p:nvPr/>
        </p:nvSpPr>
        <p:spPr>
          <a:xfrm>
            <a:off x="390600" y="763560"/>
            <a:ext cx="342900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marL="260280" indent="-2602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sz="1300" spc="-1" strike="noStrike">
                <a:solidFill>
                  <a:srgbClr val="000000"/>
                </a:solidFill>
                <a:latin typeface="Calibri"/>
                <a:ea typeface="Microsoft YaHei"/>
              </a:rPr>
              <a:t>Ce document peut-être utilisé comme base pour la création rapide et simple d'image pour le DPC Touch V2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260280" indent="-2602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260280" indent="-2602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sz="1300" spc="-1" strike="noStrike">
                <a:solidFill>
                  <a:srgbClr val="000000"/>
                </a:solidFill>
                <a:latin typeface="Calibri"/>
                <a:ea typeface="Microsoft YaHei"/>
              </a:rPr>
              <a:t>Ces slides sont spécialement formatées aux dimensions de l'écran du DPC (800 x 480 px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260280" indent="-2602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260280" indent="-2602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sz="1300" spc="-1" strike="noStrike">
                <a:solidFill>
                  <a:srgbClr val="000000"/>
                </a:solidFill>
                <a:latin typeface="Calibri"/>
                <a:ea typeface="Microsoft YaHei"/>
              </a:rPr>
              <a:t>Insérer vos photos et texte, puis sauvegarder le docuent au format image jpeg. (</a:t>
            </a:r>
            <a:r>
              <a:rPr b="0" sz="1300" spc="-1" strike="noStrike">
                <a:solidFill>
                  <a:srgbClr val="ffd040"/>
                </a:solidFill>
                <a:latin typeface="Calibri"/>
                <a:ea typeface="Microsoft YaHei"/>
              </a:rPr>
              <a:t>Fichier &gt; Enregistrer sous &gt; .jpg &gt; Chaque diapositive</a:t>
            </a:r>
            <a:r>
              <a:rPr b="0" sz="13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260280" indent="-2602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260280" indent="-2602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sz="1300" spc="-1" strike="noStrike">
                <a:solidFill>
                  <a:srgbClr val="000000"/>
                </a:solidFill>
                <a:latin typeface="Calibri"/>
                <a:ea typeface="Microsoft YaHei"/>
              </a:rPr>
              <a:t>Se référer au manuel d'utilisation pour plus d'information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2" name="Espace réservé du contenu 5" descr=""/>
          <p:cNvPicPr/>
          <p:nvPr/>
        </p:nvPicPr>
        <p:blipFill>
          <a:blip r:embed="rId2"/>
          <a:stretch/>
        </p:blipFill>
        <p:spPr>
          <a:xfrm>
            <a:off x="6638760" y="155520"/>
            <a:ext cx="609840" cy="387360"/>
          </a:xfrm>
          <a:prstGeom prst="rect">
            <a:avLst/>
          </a:prstGeom>
          <a:ln w="0">
            <a:noFill/>
          </a:ln>
        </p:spPr>
      </p:pic>
      <p:sp>
        <p:nvSpPr>
          <p:cNvPr id="2053" name="Zone de texte 14336"/>
          <p:cNvSpPr/>
          <p:nvPr/>
        </p:nvSpPr>
        <p:spPr>
          <a:xfrm>
            <a:off x="1347840" y="27000"/>
            <a:ext cx="49258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70160"/>
                <a:tab algn="l" pos="2741760"/>
                <a:tab algn="l" pos="4111560"/>
                <a:tab algn="l" pos="5483160"/>
                <a:tab algn="l" pos="6854760"/>
                <a:tab algn="l" pos="8224920"/>
                <a:tab algn="l" pos="9596520"/>
                <a:tab algn="l" pos="10968120"/>
                <a:tab algn="l" pos="12337920"/>
                <a:tab algn="l" pos="13709520"/>
                <a:tab algn="l" pos="15081120"/>
              </a:tabLst>
            </a:pPr>
            <a:r>
              <a:rPr b="0" sz="17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4" name="Picture 7" descr=""/>
          <p:cNvPicPr/>
          <p:nvPr/>
        </p:nvPicPr>
        <p:blipFill>
          <a:blip r:embed="rId3"/>
          <a:srcRect l="0" t="0" r="0" b="81019"/>
          <a:stretch/>
        </p:blipFill>
        <p:spPr>
          <a:xfrm>
            <a:off x="1401840" y="4329000"/>
            <a:ext cx="5232240" cy="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Rectangle 11"/>
          <p:cNvSpPr/>
          <p:nvPr/>
        </p:nvSpPr>
        <p:spPr>
          <a:xfrm>
            <a:off x="0" y="3240"/>
            <a:ext cx="7621560" cy="4568760"/>
          </a:xfrm>
          <a:prstGeom prst="rect">
            <a:avLst/>
          </a:prstGeom>
          <a:solidFill>
            <a:srgbClr val="e2f0d9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1400" spc="-1" strike="noStrike">
                <a:solidFill>
                  <a:srgbClr val="ffd040"/>
                </a:solidFill>
                <a:latin typeface="Calibri"/>
              </a:rPr>
              <a:t>Image pleine pag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6" name="Rectangle 10"/>
          <p:cNvSpPr/>
          <p:nvPr/>
        </p:nvSpPr>
        <p:spPr>
          <a:xfrm>
            <a:off x="4351320" y="3294000"/>
            <a:ext cx="3203640" cy="1216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i="1" sz="1000" spc="-1" strike="noStrike">
                <a:solidFill>
                  <a:srgbClr val="ffd040"/>
                </a:solidFill>
                <a:latin typeface="Calibri"/>
              </a:rPr>
              <a:t>Zone recouverte par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i="1" sz="1000" spc="-1" strike="noStrike">
                <a:solidFill>
                  <a:srgbClr val="ffd040"/>
                </a:solidFill>
                <a:latin typeface="Calibri"/>
              </a:rPr>
              <a:t> </a:t>
            </a:r>
            <a:r>
              <a:rPr b="0" i="1" sz="1000" spc="-1" strike="noStrike">
                <a:solidFill>
                  <a:srgbClr val="ffd040"/>
                </a:solidFill>
                <a:latin typeface="Calibri"/>
              </a:rPr>
              <a:t>la fenêtre de confirmation opérateur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i="1" sz="1000" spc="-1" strike="noStrike">
                <a:solidFill>
                  <a:srgbClr val="ffd040"/>
                </a:solidFill>
                <a:latin typeface="Calibri"/>
              </a:rPr>
              <a:t>(si utilisée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6320" y="207720"/>
            <a:ext cx="4491000" cy="2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 Light"/>
              </a:rPr>
              <a:t>Titre de l'opération à réaliser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8" name="Rectangle 9"/>
          <p:cNvSpPr/>
          <p:nvPr/>
        </p:nvSpPr>
        <p:spPr>
          <a:xfrm>
            <a:off x="4351320" y="673200"/>
            <a:ext cx="3203640" cy="2554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alibri"/>
              </a:rPr>
              <a:t>Instructions courte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Calibri"/>
              </a:rPr>
              <a:t>mdjsgsjgsdjgqjfjgjdiqgivjjgvijdigvjgkbjdjgvrsijgvdiqjgjfqdij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Calibri"/>
              </a:rPr>
              <a:t>mdjsgsjgsdjgqjfjgjdiqgivjjgvijdigvjgkbjdjgvrsijgvdiqjgjfqdij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Calibri"/>
              </a:rPr>
              <a:t>mdjsgsjgsdjgqjfjgjdiqgivjjgvijdigvjgkbjdjgvrsijgvdiqjgjfqdij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Calibri"/>
              </a:rPr>
              <a:t>kbjdjgvrsijgvdiqjgjfqdij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Calibri"/>
              </a:rPr>
              <a:t>Confirmez ci-dessou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9" name="Rectangle 10"/>
          <p:cNvSpPr/>
          <p:nvPr/>
        </p:nvSpPr>
        <p:spPr>
          <a:xfrm>
            <a:off x="4351320" y="3294000"/>
            <a:ext cx="3203640" cy="1216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i="1" sz="1000" spc="-1" strike="noStrike">
                <a:solidFill>
                  <a:srgbClr val="ffd040"/>
                </a:solidFill>
                <a:latin typeface="Calibri"/>
              </a:rPr>
              <a:t>Zone à laisser vid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i="1" sz="1000" spc="-1" strike="noStrike">
                <a:solidFill>
                  <a:srgbClr val="ffd040"/>
                </a:solidFill>
                <a:latin typeface="Calibri"/>
              </a:rPr>
              <a:t>pour la fenêtre de confirmation opérateur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i="1" sz="1000" spc="-1" strike="noStrike">
                <a:solidFill>
                  <a:srgbClr val="ffd040"/>
                </a:solidFill>
                <a:latin typeface="Calibri"/>
              </a:rPr>
              <a:t>(si utilisée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0" name="Rectangle 11"/>
          <p:cNvSpPr/>
          <p:nvPr/>
        </p:nvSpPr>
        <p:spPr>
          <a:xfrm>
            <a:off x="63360" y="644400"/>
            <a:ext cx="4227480" cy="3865680"/>
          </a:xfrm>
          <a:prstGeom prst="rect">
            <a:avLst/>
          </a:prstGeom>
          <a:solidFill>
            <a:srgbClr val="e2f0d9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1400" spc="-1" strike="noStrike">
                <a:solidFill>
                  <a:srgbClr val="ffd040"/>
                </a:solidFill>
                <a:latin typeface="Calibri"/>
              </a:rPr>
              <a:t>Image moyenn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1" name="Image 11270" descr=""/>
          <p:cNvPicPr/>
          <p:nvPr/>
        </p:nvPicPr>
        <p:blipFill>
          <a:blip r:embed="rId1"/>
          <a:stretch/>
        </p:blipFill>
        <p:spPr>
          <a:xfrm>
            <a:off x="5332320" y="150840"/>
            <a:ext cx="1279440" cy="458640"/>
          </a:xfrm>
          <a:prstGeom prst="rect">
            <a:avLst/>
          </a:prstGeom>
          <a:ln w="0">
            <a:noFill/>
          </a:ln>
        </p:spPr>
      </p:pic>
      <p:pic>
        <p:nvPicPr>
          <p:cNvPr id="2062" name="Espace réservé du contenu 5" descr=""/>
          <p:cNvPicPr/>
          <p:nvPr/>
        </p:nvPicPr>
        <p:blipFill>
          <a:blip r:embed="rId2"/>
          <a:stretch/>
        </p:blipFill>
        <p:spPr>
          <a:xfrm>
            <a:off x="6638760" y="155520"/>
            <a:ext cx="60984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37080" y="671400"/>
            <a:ext cx="298296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 Light"/>
              </a:rPr>
              <a:t>Titre de l'opération </a:t>
            </a:r>
            <a:br>
              <a:rPr sz="2200"/>
            </a:br>
            <a:r>
              <a:rPr b="1" lang="fr-FR" sz="2200" spc="-1" strike="noStrike">
                <a:solidFill>
                  <a:srgbClr val="000000"/>
                </a:solidFill>
                <a:latin typeface="Calibri Light"/>
              </a:rPr>
              <a:t>à réaliser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4" name="Rectangle 10"/>
          <p:cNvSpPr/>
          <p:nvPr/>
        </p:nvSpPr>
        <p:spPr>
          <a:xfrm>
            <a:off x="4351320" y="3294000"/>
            <a:ext cx="3203640" cy="1216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i="1" sz="1000" spc="-1" strike="noStrike">
                <a:solidFill>
                  <a:srgbClr val="ffd040"/>
                </a:solidFill>
                <a:latin typeface="Calibri"/>
              </a:rPr>
              <a:t>Zone à laisser vid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i="1" sz="1000" spc="-1" strike="noStrike">
                <a:solidFill>
                  <a:srgbClr val="ffd040"/>
                </a:solidFill>
                <a:latin typeface="Calibri"/>
              </a:rPr>
              <a:t>pour la fenêtre de confirmation opérateur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i="1" sz="1000" spc="-1" strike="noStrike">
                <a:solidFill>
                  <a:srgbClr val="ffd040"/>
                </a:solidFill>
                <a:latin typeface="Calibri"/>
              </a:rPr>
              <a:t>(si utilisée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5" name="Rectangle 11"/>
          <p:cNvSpPr/>
          <p:nvPr/>
        </p:nvSpPr>
        <p:spPr>
          <a:xfrm>
            <a:off x="63360" y="50760"/>
            <a:ext cx="4227480" cy="4459320"/>
          </a:xfrm>
          <a:prstGeom prst="rect">
            <a:avLst/>
          </a:prstGeom>
          <a:solidFill>
            <a:srgbClr val="e2f0d9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1400" spc="-1" strike="noStrike">
                <a:solidFill>
                  <a:srgbClr val="ffd040"/>
                </a:solidFill>
                <a:latin typeface="Calibri"/>
              </a:rPr>
              <a:t>Imag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6" name="Image 11270" descr=""/>
          <p:cNvPicPr/>
          <p:nvPr/>
        </p:nvPicPr>
        <p:blipFill>
          <a:blip r:embed="rId1"/>
          <a:stretch/>
        </p:blipFill>
        <p:spPr>
          <a:xfrm>
            <a:off x="5513400" y="117360"/>
            <a:ext cx="879480" cy="316080"/>
          </a:xfrm>
          <a:prstGeom prst="rect">
            <a:avLst/>
          </a:prstGeom>
          <a:ln w="0">
            <a:noFill/>
          </a:ln>
        </p:spPr>
      </p:pic>
      <p:sp>
        <p:nvSpPr>
          <p:cNvPr id="2067" name="Rectangle 1"/>
          <p:cNvSpPr/>
          <p:nvPr/>
        </p:nvSpPr>
        <p:spPr>
          <a:xfrm>
            <a:off x="4351320" y="1319040"/>
            <a:ext cx="3203640" cy="1908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i="1" sz="1400" spc="-1" strike="noStrike" u="sng">
                <a:solidFill>
                  <a:srgbClr val="000000"/>
                </a:solidFill>
                <a:uFillTx/>
                <a:latin typeface="Calibri"/>
              </a:rPr>
              <a:t>Instruction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ffd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1400" spc="-1" strike="noStrike">
                <a:solidFill>
                  <a:srgbClr val="ffd040"/>
                </a:solidFill>
                <a:latin typeface="Calibri"/>
              </a:rPr>
              <a:t>mdjsgsjgsdjgqjfjgjdiqgivjjgvijdigvjgkbjdjgvrsijgvdiqjgjfqdij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ffd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ffd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1400" spc="-1" strike="noStrike">
                <a:solidFill>
                  <a:srgbClr val="ffd040"/>
                </a:solidFill>
                <a:latin typeface="Calibri"/>
              </a:rPr>
              <a:t>kbjdjgvrsijgvdiqjgjfqdij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ffd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ffd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1400" spc="-1" strike="noStrike">
                <a:solidFill>
                  <a:srgbClr val="ffd040"/>
                </a:solidFill>
                <a:latin typeface="Calibri"/>
              </a:rPr>
              <a:t>Confirmez ci-dessou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ffd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ffd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1152360" y="126720"/>
            <a:ext cx="5281920" cy="2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 Light"/>
              </a:rPr>
              <a:t>Titre de l'opération à réaliser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9" name="Rectangle 10"/>
          <p:cNvSpPr/>
          <p:nvPr/>
        </p:nvSpPr>
        <p:spPr>
          <a:xfrm>
            <a:off x="4351320" y="3294000"/>
            <a:ext cx="3203640" cy="1216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i="1" sz="1000" spc="-1" strike="noStrike">
                <a:solidFill>
                  <a:srgbClr val="ffd040"/>
                </a:solidFill>
                <a:latin typeface="Calibri"/>
              </a:rPr>
              <a:t>Zone à laisser vid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i="1" sz="1000" spc="-1" strike="noStrike">
                <a:solidFill>
                  <a:srgbClr val="ffd040"/>
                </a:solidFill>
                <a:latin typeface="Calibri"/>
              </a:rPr>
              <a:t>pour la fenêtre de confirmation opérateur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i="1" sz="1000" spc="-1" strike="noStrike">
                <a:solidFill>
                  <a:srgbClr val="ffd040"/>
                </a:solidFill>
                <a:latin typeface="Calibri"/>
              </a:rPr>
              <a:t>(si utilisée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0" name="Rectangle 11"/>
          <p:cNvSpPr/>
          <p:nvPr/>
        </p:nvSpPr>
        <p:spPr>
          <a:xfrm>
            <a:off x="4394160" y="495360"/>
            <a:ext cx="3122640" cy="2720880"/>
          </a:xfrm>
          <a:prstGeom prst="rect">
            <a:avLst/>
          </a:prstGeom>
          <a:solidFill>
            <a:srgbClr val="e2f0d9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sz="1400" spc="-1" strike="noStrike">
                <a:solidFill>
                  <a:srgbClr val="ffd040"/>
                </a:solidFill>
                <a:latin typeface="Calibri"/>
              </a:rPr>
              <a:t>Image réduit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1" name="Rectangle 1"/>
          <p:cNvSpPr/>
          <p:nvPr/>
        </p:nvSpPr>
        <p:spPr>
          <a:xfrm>
            <a:off x="68400" y="495360"/>
            <a:ext cx="4241520" cy="3986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alibri"/>
              </a:rPr>
              <a:t>Instructions longue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Calibri"/>
              </a:rPr>
              <a:t>mdjsgsjgsdjgqjfjgjdiqgivjjgvijdigvjgkbjdjgvrsijgvdiqjgjfqdij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Calibri"/>
              </a:rPr>
              <a:t>mdjsgsjgsdjgqjfjgjdiqgivjjgvijdigvjgkbjdjgvrsijgvdiqjgjfqdij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Calibri"/>
              </a:rPr>
              <a:t>mdjsgsjgsdjgqjfjgjdiqgivjjgvijdigvjgkbjdjgvrsijgvdiqjgjfqdij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Calibri"/>
              </a:rPr>
              <a:t>mdjsgsjgsdjgqjfjgjdiqgivjjgvijdigvjgkbjdjgvrsijgvdiqjgjfqdij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Calibri"/>
              </a:rPr>
              <a:t>kbjdjgvrsijgvdiqjgjfqdij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Calibri"/>
              </a:rPr>
              <a:t>Confirmez ci-contre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9T15:44:00Z</dcterms:created>
  <dc:creator/>
  <dc:description/>
  <dc:language>en-US</dc:language>
  <cp:lastModifiedBy>Philippe Foucher</cp:lastModifiedBy>
  <dcterms:modified xsi:type="dcterms:W3CDTF">2020-12-04T13:08:22Z</dcterms:modified>
  <cp:revision>46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6-11.2.0.9747</vt:lpwstr>
  </property>
  <property fmtid="{D5CDD505-2E9C-101B-9397-08002B2CF9AE}" pid="3" name="NXTAG2">
    <vt:lpwstr>00080078050000000000010282310207f7000400038000</vt:lpwstr>
  </property>
</Properties>
</file>